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9DB7-F8FA-4ABF-BB49-E4C0D84B7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E0F0-B4E0-4684-B76D-E5E0A96B2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D544-2131-48DD-8950-2891BFC86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86B7-7332-4B77-876A-26CDF7C2E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1F4F-FC60-4945-B608-A962AC918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4832-FD71-4EFE-B81B-90178D2CB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88EC-E3E3-4E7F-8412-2DD88C092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96D7-ED9C-462F-A231-9AA46A7B1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946B-481B-4FFE-866F-1A98251B0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0F05-A016-40C8-9394-528B8712A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3D97-FCAA-4A53-9291-41E8E360B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F994-16C3-462F-B088-6ADCC5FB4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84D04-D8D0-4AEC-A402-1548516C9883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Rakendusliku loogika süvakur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Lausearvutuse semant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reeglid ütlevad, kuid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ite tõeväärtuste põhjal määrata kogu valemi tõeväärtus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arvutuse valem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Iga lausemuutuja väärtuseks on kas tõene (T) või väär (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vää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mõlemad on tõe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vähemalt üks valemit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 võ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väärtused on sam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kseeritud lausesümbolite tähestik (signatuu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sioon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uvalist funk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. Lausearvutuse valemite väärtustus on aga funktsioon, mis annab kõigile valemitele väärtuse sõltuvalt konkreetsest interpretatsioon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äärtuseks interpretatsioon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1, siis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tõe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) ning seda tähistataks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pidisel juhul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vää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7086600" y="24382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Tõeväärtustabe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väärtustabel sisaldab lausearvutuse valemi kõikvõimalikke väärtustusi. Kui valemi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utujat, siis tabel koosneb 2</a:t>
            </a:r>
            <a:r>
              <a:rPr b="0" i="1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st, et võimaldada arvutada valemi väärtust igasuguse muutujate väärtuste kombinatsiooni jaoks. Pikemate valemite puhul on mõistlik arvutada esmalt väiksemate alamvalemite tõeväärtuse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Lausearvutuse valemite liigitus: 4 vari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dkehti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em, kui see on tõene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väär valem, kui see on väär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on tõene mingi väärtustuse korr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äratav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see mingi väärtustuse puhul ei ole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hulg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hta öeldakse, et see tingib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u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sellest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järeldu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järelduvus tühjast valemite hulgast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 mis loogiline tõesus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553080" y="22096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371600" y="17524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752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895480" y="220968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209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219320" y="3962520"/>
          <a:ext cx="30456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9625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724280" y="3962520"/>
          <a:ext cx="30492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962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71800" y="2819520"/>
          <a:ext cx="3049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28195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143000" y="3352680"/>
          <a:ext cx="30492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33526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ekvivalents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ekvivalents on sama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i loogiline tões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90920" y="182880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324480" y="18288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8288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00600" y="304812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481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Teem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ja predikaatarvutuse soend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attõestamine lausearvutuses ja DP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atõestamine predikaatarvutuses ja resolutsioonimeet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ega predikaatarvu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sioonistrateegiad ja optimeering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rukamate probleemide formaliseerim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sonoomiate ja ontoloogiate erimeetod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alsed tõestajad ja nende kasutam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ne ekvivalents on ekvivalentsiseos: ta on refleksiiv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ümmeetr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g transitiivne 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ete asendamise omad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sieerimise omad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28800" y="54100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410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Normaalkuju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ausesü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teisendamine konjunktiivsele või disjunktiivsele normaalkujule (annab esialgse valemiga loogiliselt ekvivalentse valemi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id ära, kasutad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ed sisse ning kahekordsed eitused ära, kasutade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id või konjunktsioonid sisse, kasutade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kuju võib veel optimeeri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ut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sioo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istatud kolmanda seadu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 seadu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ute seadus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ja veel mitmeid taolisi reegle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das tuvastada lausearvutuse valemi tautoloogilisu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põhimõttelist varia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e tabeli ab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stmes N rida, kus N on muutujate arv vale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mõne järeldussüsteemi abi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, Gentzeni naturaal- või sekventsiaalarvutus, resolutsioonimeetod, Davis-Putnam v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hk tõeväärtustabeli vari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F mudel on kõigi muutujate väärtustuste-komplektide hulk, mille puhul valem F on tõene. Sisuliselt tõeväärtustabeli read, kus valem annab väärtuseks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tähendab, et kõigi mudelite (ridade) korral, kus A on tõene, on ka B tõ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= B siis ja ainult siis, kui |= A -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tautoloogiline siis ja ainult siis, kui valem –F on vastuolu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Lausearvu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alusek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õiste (proposition). Arutlus jaotatakse lauseteks, millest igaüks on kas tõene või väär. Lausete omavahelised seosed määravad kogu arutluse kehtiv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58737-311C-4836-BACE-421805F38B59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520"/>
            <a:ext cx="7793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äide: tõeväärtustabe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3200400"/>
          <a:ext cx="6051240" cy="252072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2305800"/>
                <a:gridCol w="1296000"/>
                <a:gridCol w="1297080"/>
              </a:tblGrid>
              <a:tr h="5050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→ (q → p)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&amp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t-EE" sz="2400" spc="-1" strike="noStrike">
                          <a:solidFill>
                            <a:srgbClr val="000000"/>
                          </a:solidFill>
                          <a:latin typeface="cmsy10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066680" y="1600200"/>
            <a:ext cx="779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Pane tähele, 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A -&gt;B)  on ekvivalentne (– A v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stusteoori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nt (järeldusmootorid jm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utame mõnda korrektset ja täielikku järelduste tuletamise/kontrollimise süste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- B tähendab, et valitud järeldussüsteemis saab A-st järeldad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korrektne, ku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 |- B, siis A|=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süsteem on täielik, k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A|=B, siis A |-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: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berti sü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i aksioomi (aksioomiskeem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s järeldusreeg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ndamin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ksioomiskeemide muutujaid võib asendada suvaliste lausearvutuse valemit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     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412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28840" y="1676520"/>
            <a:ext cx="514440" cy="17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95360" y="1981080"/>
            <a:ext cx="1057320" cy="190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387440" y="2286000"/>
            <a:ext cx="323856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376280" y="2567160"/>
            <a:ext cx="1876680" cy="19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NF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 F on CNF kujul, kui ta on disjunktsioonide konjunktsioon, kus disjunktsiooni elemendid on kas lausemuutujad või eitusega lausemuutuj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 tähe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-&gt;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A v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A v -B v -C v 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v E)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n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 v -B v -C v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(D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)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D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&amp; B &amp; C) -&gt; E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ma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m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kui ma olen tark, siis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kui ma saan hea hinde, siis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ma olen kas tark või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ma olen tark j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moodustatakse uusi lauseid sidesõnade abil, lausearvutuses kasutatakse vastavalt lausearvutuse teht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m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… si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ja ainult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jasti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on tihti ka seoseid, mis ei ole lausearvutuse tehted (näiteks sidesõnad sest, enne kui, jne. …) Tähelepanu tuleb pöörata ka sellele, et kui… siis… ei vasta alati lausearvutuse teh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Lausearvutuse sünta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estik – lausesümbolid (proposition symb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muutuja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 tehe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avahemär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valemid on lausete hulk, mis defineeritakse induktiivs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õik lausesümbolid on valemid (atomaarvalem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Loogilised konstandi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 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(tõene) 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(väär) on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valem, siis on k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va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on valemid, siis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ja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) on samuti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Muid lausearvutuse valemeid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mas alamlausena esinev va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l tehetel on fikseeritud prioriteedid, tänu millele on võimalik sulgude hulka valemites vähendada (kahanevas järjekorr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ge vähendada võimaldab ka assotsiatiivsusreegel, mis kehtib konj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siooni ja disjunktsiooni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49:50Z</dcterms:created>
  <dc:creator>Tiina Zingel</dc:creator>
  <dc:description/>
  <dc:language>en-US</dc:language>
  <cp:lastModifiedBy>Tanel</cp:lastModifiedBy>
  <dcterms:modified xsi:type="dcterms:W3CDTF">2013-02-04T07:22:52Z</dcterms:modified>
  <cp:revision>21</cp:revision>
  <dc:subject/>
  <dc:title>Rakendusliku loogika süvakursus</dc:title>
</cp:coreProperties>
</file>